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9.jpeg" ContentType="image/jpeg"/>
  <Override PartName="/ppt/media/image1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2BB50A-A5D8-409D-A833-7195DACCA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21AC85-D35C-42E4-867F-610451B2C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39438C-8505-4708-A41D-18FA9780C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4782CD-655A-46EB-8B50-20A6D7BAF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4F4FCF-87A5-4C30-A78B-ADBC796F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BE84BE-0BC8-462F-B48E-274F693E0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10FC5A-8277-4FBD-A2B7-AAE8631E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85328B-1B3D-4008-9BA9-79E4E1D5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4F4E35-4F48-46CD-BDCB-DF5BB10E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B72FF0-AEFE-45FA-9A2E-F27D6E6BD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AB0B0A-B963-46AC-B572-8A5A4BD64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70A75D-FD9D-4824-9FAA-CFF837C03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" name="PlaceHolder 3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0066"/>
                </a:solidFill>
                <a:latin typeface="Times New Roman"/>
              </a:rPr>
              <a:t>Development Platforms</a:t>
            </a:r>
            <a:r>
              <a:rPr b="0" lang="en-US" sz="1200" spc="-1" strike="noStrike">
                <a:solidFill>
                  <a:srgbClr val="330066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Times New Roman"/>
              </a:rPr>
              <a:t>Natawut Nupairoj, Ph.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0D895-82C5-4061-8AE3-6672CB8E010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8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schemas.xmlsoap.org/soap/encoding/" TargetMode="External"/><Relationship Id="rId2" Type="http://schemas.openxmlformats.org/officeDocument/2006/relationships/hyperlink" Target="http://www.w3.org/2001/XMLSchema" TargetMode="External"/><Relationship Id="rId3" Type="http://schemas.openxmlformats.org/officeDocument/2006/relationships/hyperlink" Target="http://schemas.xmlsoap.org/soap/envelope/" TargetMode="External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javaworld.com/javaworld/jw-06-2002/jw-0628-j2eevsnet_p.html" TargetMode="External"/><Relationship Id="rId2" Type="http://schemas.openxmlformats.org/officeDocument/2006/relationships/hyperlink" Target="http://www.javaworld.com/javaworld/jw-03-2002/jw-0308-j2eenet_p.html" TargetMode="External"/><Relationship Id="rId3" Type="http://schemas.openxmlformats.org/officeDocument/2006/relationships/hyperlink" Target="http://developer.java.sun.com/developer/onlineTraining/JSPIntro/contents.html" TargetMode="External"/><Relationship Id="rId4" Type="http://schemas.openxmlformats.org/officeDocument/2006/relationships/hyperlink" Target="http://www.webservices.org/" TargetMode="External"/><Relationship Id="rId5" Type="http://schemas.openxmlformats.org/officeDocument/2006/relationships/hyperlink" Target="http://www.webservices.org/" TargetMode="Externa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Development Platform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10684 Information System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awut Nupairoj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artment of Computer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lalongkorn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J2EE in Ac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219320" y="1411200"/>
            <a:ext cx="678168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icrosoft .NE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ite of produ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ing Langu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#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SP.NE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VB.NE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parties: NetCOBOL, Visual Perl, Visual Python, etc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ment syst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rv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on Language Run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VM-liked, but supporting multiple languag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web services to bind everything togeth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.NET Architect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6980400" cy="52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SP.Net Examp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%@ Page Language="VB" %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form action="intro2.aspx" method="post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h3&gt; Name: &lt;input id="Name" type=tex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tegory: &lt;select id="Category" size=1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option&gt;psychology&lt;/option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option&gt;business&lt;/option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option&gt;popular_comp&lt;/option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selec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h3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input type=submit value="Lookup"&gt; &lt;p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% Dim I As Int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I = 0 to 7 %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font size="&lt;%=I%&gt;"&gt; Welcome to ASP.NET &lt;/font&gt; &lt;b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% Next %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html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.NET in Ac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371600" y="1495440"/>
            <a:ext cx="662940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J2EE vs. .NE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2E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lti-Platforms: Unix, Windows, and oth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alable and high-performan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te server-level services: JMS, EJB, JCA, and oth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dely suppor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N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lti-Languages: C#, VB.Net, ASP.Net, and oth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od development tools: Visual Studio .N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ple to develo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ilt-in supports for XML and Web servic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R will play a very critical ro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600200" y="2514600"/>
            <a:ext cx="644508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at is web service 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xt-generation service-oriented Internet applications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onent-based software architecture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concept of a programmable Internet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OK, what really is web service ?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ll…nobody really knows for su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veryone has its own defini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thing in comm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ftware components with well-defined interfac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ing through XML-based messag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necting via HTTP-based protoco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in Goal: Service for Servi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403380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net has always been service oriented for HUMA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5297400" y="3925800"/>
            <a:ext cx="1427400" cy="14749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778400" y="4419720"/>
            <a:ext cx="12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 Black"/>
              </a:rPr>
              <a:t>e</a:t>
            </a:r>
            <a:r>
              <a:rPr b="0" lang="en-US" sz="3600" spc="-1" strike="noStrike">
                <a:solidFill>
                  <a:srgbClr val="ff6600"/>
                </a:solidFill>
                <a:latin typeface="Arial Black"/>
              </a:rPr>
              <a:t>B</a:t>
            </a:r>
            <a:r>
              <a:rPr b="0" lang="en-US" sz="3600" spc="-1" strike="noStrike">
                <a:solidFill>
                  <a:srgbClr val="00ff00"/>
                </a:solidFill>
                <a:latin typeface="Arial Black"/>
              </a:rPr>
              <a:t>a</a:t>
            </a:r>
            <a:r>
              <a:rPr b="0" lang="en-US" sz="3600" spc="-1" strike="noStrike">
                <a:solidFill>
                  <a:srgbClr val="0099ff"/>
                </a:solidFill>
                <a:latin typeface="Arial Black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295280" y="1600200"/>
            <a:ext cx="2130480" cy="1819080"/>
            <a:chOff x="1295280" y="1600200"/>
            <a:chExt cx="2130480" cy="1819080"/>
          </a:xfrm>
        </p:grpSpPr>
        <p:sp>
          <p:nvSpPr>
            <p:cNvPr id="187" name="Gear"/>
            <p:cNvSpPr/>
            <p:nvPr/>
          </p:nvSpPr>
          <p:spPr>
            <a:xfrm>
              <a:off x="2476440" y="1600200"/>
              <a:ext cx="949320" cy="8341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95280" y="1944000"/>
              <a:ext cx="1135080" cy="997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031480" y="2311560"/>
              <a:ext cx="1261440" cy="11077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4648320" y="4343400"/>
            <a:ext cx="38098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an we make them available for digital life forms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105520" y="205740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 Black"/>
              </a:rPr>
              <a:t>Amaz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200400" y="4800600"/>
            <a:ext cx="1828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362320" y="3657600"/>
            <a:ext cx="0" cy="7621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581280" y="2438280"/>
            <a:ext cx="15242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6" dur="3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3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utl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verview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2EE Platfor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crosoft .NET Platfor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b Service Platfor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ife before Web Servic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7696080" cy="28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eb Services Mod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295280" y="1549440"/>
            <a:ext cx="6858000" cy="49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riving Forc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business tren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lexible architectur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RPC to messaging-centric mode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siness nee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I – Enterprise Application Integr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2B / G2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e Ultimate Goal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b service 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independ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lementation independ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ftware Compone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Describe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using a service description langua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Publishe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a registry of servic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Discovere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hrough a standard mechanis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Invoke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rough a declared API over a networ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Compose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with other servic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ervice Oriented Architect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4033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ublish – Find – Bin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590920"/>
            <a:ext cx="1295280" cy="121896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g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715000" y="4876920"/>
            <a:ext cx="1295280" cy="121896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vi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057400" y="4876920"/>
            <a:ext cx="1295280" cy="121896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es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2971800" y="3657240"/>
            <a:ext cx="990720" cy="1219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5029200" y="3657240"/>
            <a:ext cx="990720" cy="1219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29000" y="55627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63080" y="39625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99"/>
                </a:solidFill>
                <a:latin typeface="Arial"/>
                <a:ea typeface="Arial"/>
              </a:rPr>
              <a:t>Pub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192200" y="563868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99"/>
                </a:solidFill>
                <a:latin typeface="Arial"/>
                <a:ea typeface="Arial"/>
              </a:rPr>
              <a:t>B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15320" y="3962520"/>
            <a:ext cx="6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99"/>
                </a:solidFill>
                <a:latin typeface="Arial"/>
                <a:ea typeface="Arial"/>
              </a:rPr>
              <a:t>F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33520" y="3048120"/>
            <a:ext cx="914400" cy="609480"/>
          </a:xfrm>
          <a:noFill/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Arial"/>
              </a:rPr>
              <a:t>UD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620120" y="4648320"/>
            <a:ext cx="1066680" cy="609480"/>
          </a:xfrm>
          <a:noFill/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Arial"/>
              </a:rPr>
              <a:t>SO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2895480"/>
            <a:ext cx="1143000" cy="609840"/>
          </a:xfrm>
          <a:noFill/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Arial"/>
              </a:rPr>
              <a:t>WS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ervice Access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termine how a message is sent from the service requestor to the service provid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 (SMTP, FTP, RMI/IIOP, MQSeries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M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A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ML-based RPC over HTTP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OAP RPC Reques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POST /bws/inventory.jws HTTP/1.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xml version=“1.0” encoding=“UTF-8”?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OAP-ENV:Envelop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SOAP-ENV:encodingStyle=</a:t>
            </a:r>
            <a:r>
              <a:rPr b="0" lang="en-US" sz="1500" spc="-1" strike="noStrike" u="sng">
                <a:solidFill>
                  <a:srgbClr val="7e9ce8"/>
                </a:solidFill>
                <a:uFillTx/>
                <a:latin typeface="Courier New"/>
                <a:ea typeface="Courier New"/>
                <a:hlinkClick r:id="rId1"/>
              </a:rPr>
              <a:t>http://schemas.xmlsoap.org/soap/encoding/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xsd=</a:t>
            </a:r>
            <a:r>
              <a:rPr b="0" lang="en-US" sz="1500" spc="-1" strike="noStrike" u="sng">
                <a:solidFill>
                  <a:srgbClr val="7e9ce8"/>
                </a:solidFill>
                <a:uFillTx/>
                <a:latin typeface="Courier New"/>
                <a:ea typeface="Courier New"/>
                <a:hlinkClick r:id="rId2"/>
              </a:rPr>
              <a:t>http://www.w3.org/2001/XMLSchem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SOAP-ENV=</a:t>
            </a:r>
            <a:r>
              <a:rPr b="0" lang="en-US" sz="1500" spc="-1" strike="noStrike" u="sng">
                <a:solidFill>
                  <a:srgbClr val="7e9ce8"/>
                </a:solidFill>
                <a:uFillTx/>
                <a:latin typeface="Courier New"/>
                <a:ea typeface="Courier New"/>
                <a:hlinkClick r:id="rId3"/>
              </a:rPr>
              <a:t>http://schemas.xmlsoap.org/soap/envelope/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xsi=http://www.w3.org/2001/XMLSchema-instanc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OAP-ENV:Body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doCheck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rg0 xsi:type=“xsd:string”&gt;947-TI&lt;/arg0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rg1 xsi:type=“xsd:int”&gt;1&lt;/arg1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doCheck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SOAP-ENV:Body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SOAP-ENV:Envelop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OAP RPC Respons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/1.0 200 O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xml version=“1.0” encoding=“UTF-8”?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OAP-ENV:Envelop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SOAP-ENV:encodingStyle=http://schemas.xmlsoap.org/soap/encoding/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xsd=http://www.w3.org/2001/XMLSchem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SOAP-ENV=http://schemas.xmlsoap.org/soap/envelope/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xsi=http://www.w3.org/2001/XMLSchema-instanc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OAP-ENV:Body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doCheckRespons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doCheckResult xsi:type=“xsd:boolean”&gt;true&lt;/doCheckResult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doCheckRespons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SOAP-ENV:Body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SOAP-ENV:Envelop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OAP Messag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xml version=“1.0” encoding=“UTF-8”?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OAP-ENV:Envelop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SOAP-ENV:encodingStyle=http://schemas.xmlsoap.org/soap/encoding/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xsd=http://www.w3.org/2001/XMLSchem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SOAP-ENV=http://schemas.xmlsoap.org/soap/envelope/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xsi=http://www.w3.org/2001/XMLSchema-instanc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OAP-ENV:Body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o xmlns=http://www.skatestown.com/ns/p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id=“503383” submitted=“2001-12-06”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billTo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company&gt;The Skateboard Warehouse&lt;/company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treet&gt;One Warehouse Park&lt;/street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billTo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po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SOAP-ENV:Body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SOAP-ENV:Envelop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at are in the market 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2E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A – WebLogic Serv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BM – WebSphere SOAP toolki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n – SunO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ona – XMLB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cromadia – JRun 3.1 / JRun 4.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ache – Axis (SOAP API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versity of Indiana – SOAP-RM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nd Electric – GLU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crosoft’s .N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vervie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gacy platfor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inframe: COBOL / RP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he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lem with legacy platfor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extend and find suppor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tform dependent / vendor lock-i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ensive to maintai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forman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cking of new featur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ny existing applications 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es…there are some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alersphe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tional Auto Dealer Associ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r dealers to communicate with other companies via ebXML and SOA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eature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andling credit check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tting the exact color and car option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ocating the car at another deale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se Study – Singapore eGovernmen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ublic eService Infrastructure (PSi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A Singapo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grate over 600 online services from several government agenci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 serv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quest for a new driver’s licens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rvice provided by Land Transport Authority of Singapor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owever, citizen information is needed from Citizen Departmen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nd payment must be made onlin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ther services also need these informati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2133720" y="4343400"/>
            <a:ext cx="530280" cy="990720"/>
          </a:xfrm>
          <a:prstGeom prst="upDownArrow">
            <a:avLst>
              <a:gd name="adj1" fmla="val 67944"/>
              <a:gd name="adj2" fmla="val 3263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114800" y="4343400"/>
            <a:ext cx="530280" cy="990720"/>
          </a:xfrm>
          <a:prstGeom prst="upDownArrow">
            <a:avLst>
              <a:gd name="adj1" fmla="val 67944"/>
              <a:gd name="adj2" fmla="val 3263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562720" y="2209680"/>
            <a:ext cx="1447560" cy="3812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905120" y="2209680"/>
            <a:ext cx="3352680" cy="3812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5562720" y="2971800"/>
            <a:ext cx="1450440" cy="838080"/>
            <a:chOff x="5562720" y="2971800"/>
            <a:chExt cx="1450440" cy="838080"/>
          </a:xfrm>
        </p:grpSpPr>
        <p:sp>
          <p:nvSpPr>
            <p:cNvPr id="236" name=""/>
            <p:cNvSpPr/>
            <p:nvPr/>
          </p:nvSpPr>
          <p:spPr>
            <a:xfrm>
              <a:off x="5562720" y="2971800"/>
              <a:ext cx="1450440" cy="838080"/>
            </a:xfrm>
            <a:prstGeom prst="rect">
              <a:avLst/>
            </a:prstGeom>
            <a:solidFill>
              <a:srgbClr val="7e9c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747040" y="2989080"/>
              <a:ext cx="1081440" cy="75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cccc00"/>
                  </a:solidFill>
                  <a:latin typeface="Arial"/>
                </a:rPr>
                <a:t>Apply f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cccc00"/>
                  </a:solidFill>
                  <a:latin typeface="Arial"/>
                </a:rPr>
                <a:t>Publ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cccc00"/>
                  </a:solidFill>
                  <a:latin typeface="Arial"/>
                </a:rPr>
                <a:t>Hous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6175440" y="4343400"/>
            <a:ext cx="530280" cy="990720"/>
          </a:xfrm>
          <a:prstGeom prst="upDownArrow">
            <a:avLst>
              <a:gd name="adj1" fmla="val 67944"/>
              <a:gd name="adj2" fmla="val 3263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281320" y="1143000"/>
            <a:ext cx="766800" cy="8380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2232000" y="5184720"/>
            <a:ext cx="368280" cy="530280"/>
          </a:xfrm>
          <a:prstGeom prst="can">
            <a:avLst>
              <a:gd name="adj" fmla="val 25000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218120" y="5184720"/>
            <a:ext cx="366480" cy="530280"/>
          </a:xfrm>
          <a:prstGeom prst="can">
            <a:avLst>
              <a:gd name="adj" fmla="val 25000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78400" y="5184720"/>
            <a:ext cx="366840" cy="530280"/>
          </a:xfrm>
          <a:prstGeom prst="can">
            <a:avLst>
              <a:gd name="adj" fmla="val 25000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379600" y="4853160"/>
            <a:ext cx="0" cy="396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63920" y="4853160"/>
            <a:ext cx="0" cy="396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426360" y="4853160"/>
            <a:ext cx="0" cy="396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2666880" y="1933560"/>
            <a:ext cx="6480" cy="10382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190512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819520" y="1998720"/>
            <a:ext cx="1400040" cy="973080"/>
          </a:xfrm>
          <a:custGeom>
            <a:avLst/>
            <a:gdLst/>
            <a:ahLst/>
            <a:rect l="l" t="t" r="r" b="b"/>
            <a:pathLst>
              <a:path w="858" h="589">
                <a:moveTo>
                  <a:pt x="858" y="0"/>
                </a:moveTo>
                <a:lnTo>
                  <a:pt x="0" y="1"/>
                </a:lnTo>
                <a:lnTo>
                  <a:pt x="0" y="589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62480" y="141768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19480" y="3038400"/>
            <a:ext cx="13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46840" y="4367160"/>
            <a:ext cx="13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33760" y="523080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768320" y="4343400"/>
            <a:ext cx="143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5050"/>
                </a:solidFill>
                <a:latin typeface="Arial"/>
              </a:rPr>
              <a:t>Inland Reven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593520" y="4352760"/>
            <a:ext cx="159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5050"/>
                </a:solidFill>
                <a:latin typeface="Arial"/>
              </a:rPr>
              <a:t>Tran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5050"/>
                </a:solidFill>
                <a:latin typeface="Arial"/>
              </a:rPr>
              <a:t>Depar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48480" y="4340160"/>
            <a:ext cx="131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5050"/>
                </a:solidFill>
                <a:latin typeface="Arial"/>
              </a:rPr>
              <a:t>Hou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5050"/>
                </a:solidFill>
                <a:latin typeface="Arial"/>
              </a:rPr>
              <a:t>Auth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965400" y="1219320"/>
            <a:ext cx="866880" cy="7128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5867280" y="1143000"/>
            <a:ext cx="641520" cy="83808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832040" y="3809880"/>
            <a:ext cx="5178240" cy="533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eb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2365200" y="3809880"/>
            <a:ext cx="4000320" cy="458640"/>
            <a:chOff x="2365200" y="3809880"/>
            <a:chExt cx="4000320" cy="458640"/>
          </a:xfrm>
        </p:grpSpPr>
        <p:grpSp>
          <p:nvGrpSpPr>
            <p:cNvPr id="260" name=""/>
            <p:cNvGrpSpPr/>
            <p:nvPr/>
          </p:nvGrpSpPr>
          <p:grpSpPr>
            <a:xfrm>
              <a:off x="2365200" y="3809880"/>
              <a:ext cx="3999960" cy="259200"/>
              <a:chOff x="2365200" y="3809880"/>
              <a:chExt cx="3999960" cy="259200"/>
            </a:xfrm>
          </p:grpSpPr>
          <p:cxnSp>
            <p:nvCxnSpPr>
              <p:cNvPr id="261" name=""/>
              <p:cNvCxnSpPr/>
              <p:nvPr/>
            </p:nvCxnSpPr>
            <p:spPr>
              <a:xfrm flipH="1" rot="16200000">
                <a:off x="3355200" y="2819520"/>
                <a:ext cx="2160" cy="1982160"/>
              </a:xfrm>
              <a:prstGeom prst="bentConnector3">
                <a:avLst>
                  <a:gd name="adj1" fmla="val 14400000"/>
                </a:avLst>
              </a:prstGeom>
              <a:ln w="38160">
                <a:solidFill>
                  <a:srgbClr val="ffff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262" name=""/>
              <p:cNvCxnSpPr>
                <a:endCxn id="236" idx="2"/>
              </p:cNvCxnSpPr>
              <p:nvPr/>
            </p:nvCxnSpPr>
            <p:spPr>
              <a:xfrm flipH="1" rot="16200000">
                <a:off x="5354640" y="2800800"/>
                <a:ext cx="2160" cy="2019960"/>
              </a:xfrm>
              <a:prstGeom prst="bentConnector3">
                <a:avLst>
                  <a:gd name="adj1" fmla="val 14400000"/>
                </a:avLst>
              </a:prstGeom>
              <a:ln w="38160">
                <a:solidFill>
                  <a:srgbClr val="ffff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grpSp>
          <p:nvGrpSpPr>
            <p:cNvPr id="263" name=""/>
            <p:cNvGrpSpPr/>
            <p:nvPr/>
          </p:nvGrpSpPr>
          <p:grpSpPr>
            <a:xfrm>
              <a:off x="2365560" y="4009320"/>
              <a:ext cx="3999960" cy="259200"/>
              <a:chOff x="2365560" y="4009320"/>
              <a:chExt cx="3999960" cy="259200"/>
            </a:xfrm>
          </p:grpSpPr>
          <p:cxnSp>
            <p:nvCxnSpPr>
              <p:cNvPr id="264" name=""/>
              <p:cNvCxnSpPr/>
              <p:nvPr/>
            </p:nvCxnSpPr>
            <p:spPr>
              <a:xfrm flipV="1" rot="16200000">
                <a:off x="5373720" y="3276360"/>
                <a:ext cx="2160" cy="1982160"/>
              </a:xfrm>
              <a:prstGeom prst="bentConnector3">
                <a:avLst>
                  <a:gd name="adj1" fmla="val 14400000"/>
                </a:avLst>
              </a:prstGeom>
              <a:ln w="38160">
                <a:solidFill>
                  <a:srgbClr val="ffff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265" name=""/>
              <p:cNvCxnSpPr/>
              <p:nvPr/>
            </p:nvCxnSpPr>
            <p:spPr>
              <a:xfrm flipV="1" rot="16200000">
                <a:off x="3374640" y="3257640"/>
                <a:ext cx="2160" cy="2019960"/>
              </a:xfrm>
              <a:prstGeom prst="bentConnector3">
                <a:avLst>
                  <a:gd name="adj1" fmla="val 14400000"/>
                </a:avLst>
              </a:prstGeom>
              <a:ln w="38160">
                <a:solidFill>
                  <a:srgbClr val="ffff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</p:grpSp>
      <p:sp>
        <p:nvSpPr>
          <p:cNvPr id="266" name=""/>
          <p:cNvSpPr/>
          <p:nvPr/>
        </p:nvSpPr>
        <p:spPr>
          <a:xfrm>
            <a:off x="8051040" y="5562720"/>
            <a:ext cx="109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atents pen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6324480" y="3641760"/>
            <a:ext cx="2819520" cy="703800"/>
            <a:chOff x="6324480" y="3641760"/>
            <a:chExt cx="2819520" cy="703800"/>
          </a:xfrm>
        </p:grpSpPr>
        <p:sp>
          <p:nvSpPr>
            <p:cNvPr id="268" name=""/>
            <p:cNvSpPr/>
            <p:nvPr/>
          </p:nvSpPr>
          <p:spPr>
            <a:xfrm>
              <a:off x="6324480" y="4038480"/>
              <a:ext cx="6858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7006680" y="3641760"/>
              <a:ext cx="2137320" cy="703800"/>
              <a:chOff x="7006680" y="3641760"/>
              <a:chExt cx="2137320" cy="703800"/>
            </a:xfrm>
          </p:grpSpPr>
          <p:sp>
            <p:nvSpPr>
              <p:cNvPr id="270" name=""/>
              <p:cNvSpPr/>
              <p:nvPr/>
            </p:nvSpPr>
            <p:spPr>
              <a:xfrm>
                <a:off x="7620120" y="3733920"/>
                <a:ext cx="366480" cy="530280"/>
              </a:xfrm>
              <a:prstGeom prst="can">
                <a:avLst>
                  <a:gd name="adj" fmla="val 25000"/>
                </a:avLst>
              </a:prstGeom>
              <a:solidFill>
                <a:srgbClr val="d8d8e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16210800">
                <a:off x="7092000" y="3724920"/>
                <a:ext cx="441360" cy="610920"/>
              </a:xfrm>
              <a:prstGeom prst="upDownArrow">
                <a:avLst>
                  <a:gd name="adj1" fmla="val 67944"/>
                  <a:gd name="adj2" fmla="val 24178"/>
                </a:avLst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924680" y="3641760"/>
                <a:ext cx="12193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666699"/>
                    </a:solidFill>
                    <a:latin typeface="Arial"/>
                  </a:rPr>
                  <a:t>User Profil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3" name=""/>
          <p:cNvSpPr/>
          <p:nvPr/>
        </p:nvSpPr>
        <p:spPr>
          <a:xfrm>
            <a:off x="483840" y="2179800"/>
            <a:ext cx="12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eb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1900080" y="2971800"/>
            <a:ext cx="1454040" cy="838080"/>
            <a:chOff x="1900080" y="2971800"/>
            <a:chExt cx="1454040" cy="838080"/>
          </a:xfrm>
        </p:grpSpPr>
        <p:sp>
          <p:nvSpPr>
            <p:cNvPr id="275" name=""/>
            <p:cNvSpPr/>
            <p:nvPr/>
          </p:nvSpPr>
          <p:spPr>
            <a:xfrm>
              <a:off x="1900080" y="2971800"/>
              <a:ext cx="1454040" cy="838080"/>
            </a:xfrm>
            <a:prstGeom prst="rect">
              <a:avLst/>
            </a:prstGeom>
            <a:solidFill>
              <a:srgbClr val="7e9c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137320" y="2989080"/>
              <a:ext cx="979200" cy="75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cccc00"/>
                  </a:solidFill>
                  <a:latin typeface="Arial"/>
                </a:rPr>
                <a:t>Fil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cccc00"/>
                  </a:solidFill>
                  <a:latin typeface="Arial"/>
                </a:rPr>
                <a:t>Tax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cccc00"/>
                  </a:solidFill>
                  <a:latin typeface="Arial"/>
                </a:rPr>
                <a:t>Retur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3733920" y="2971800"/>
            <a:ext cx="1450440" cy="838080"/>
            <a:chOff x="3733920" y="2971800"/>
            <a:chExt cx="1450440" cy="838080"/>
          </a:xfrm>
        </p:grpSpPr>
        <p:sp>
          <p:nvSpPr>
            <p:cNvPr id="278" name=""/>
            <p:cNvSpPr/>
            <p:nvPr/>
          </p:nvSpPr>
          <p:spPr>
            <a:xfrm>
              <a:off x="3733920" y="2971800"/>
              <a:ext cx="1450440" cy="838080"/>
            </a:xfrm>
            <a:prstGeom prst="rect">
              <a:avLst/>
            </a:prstGeom>
            <a:solidFill>
              <a:srgbClr val="7e9c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976200" y="2989080"/>
              <a:ext cx="965520" cy="75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cccc00"/>
                  </a:solidFill>
                  <a:latin typeface="Arial"/>
                </a:rPr>
                <a:t>Rene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cccc00"/>
                  </a:solidFill>
                  <a:latin typeface="Arial"/>
                </a:rPr>
                <a:t>Driver’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cccc00"/>
                  </a:solidFill>
                  <a:latin typeface="Arial"/>
                </a:rPr>
                <a:t>Licen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4629240" y="1981080"/>
            <a:ext cx="1390680" cy="990720"/>
          </a:xfrm>
          <a:custGeom>
            <a:avLst/>
            <a:gdLst/>
            <a:ahLst/>
            <a:rect l="l" t="t" r="r" b="b"/>
            <a:pathLst>
              <a:path w="924" h="528">
                <a:moveTo>
                  <a:pt x="0" y="0"/>
                </a:moveTo>
                <a:lnTo>
                  <a:pt x="912" y="0"/>
                </a:lnTo>
                <a:lnTo>
                  <a:pt x="924" y="528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6248160" y="1933560"/>
            <a:ext cx="6120" cy="10382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ferenc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. Sheil and M. Monteiro, “Rumble in the jungle: J2EE versus .Net, Part 1”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avaWorl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June 2002, </a:t>
            </a:r>
            <a:r>
              <a:rPr b="0" lang="en-US" sz="18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www.javaworld.com/javaworld/jw-06-2002/jw-0628-j2eevsnet_p.htm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. Lurie and R. Belanger, “The great debate: .NET vs. J2EE”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avaworl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March 2002, </a:t>
            </a:r>
            <a:r>
              <a:rPr b="0" lang="en-US" sz="18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http://www.javaworld.com/javaworld/jw-03-2002/jw-0308-j2eenet_p.htm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Guru, JavaServer Pages Fundamentals,</a:t>
            </a:r>
            <a:br>
              <a:rPr sz="1800"/>
            </a:br>
            <a:r>
              <a:rPr b="0" lang="en-US" sz="1800" spc="-1" strike="noStrike" u="sng">
                <a:solidFill>
                  <a:srgbClr val="7e9ce8"/>
                </a:solidFill>
                <a:uFillTx/>
                <a:latin typeface="Arial"/>
                <a:hlinkClick r:id="rId3"/>
              </a:rPr>
              <a:t>http://developer.java.sun.com/developer/onlineTraining/JSPIntro/contents.htm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. Graham et. al, “Building Web Services with Java”, SAMS Publishing, 200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e9ce8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1800" spc="-1" strike="noStrike" u="sng">
                <a:solidFill>
                  <a:srgbClr val="7e9ce8"/>
                </a:solidFill>
                <a:uFillTx/>
                <a:latin typeface="Arial"/>
                <a:hlinkClick r:id="rId5"/>
              </a:rPr>
              <a:t>www.webservices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Java Platform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ava-Based Platfor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2SE (Standard Editio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JVM / JR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pplet and application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2ME (Micro Editio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r mobile and wireless equipmen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idle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2EE (Enterprise Editio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 set of servic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rvlet, JSP, and EJB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Java Platforms (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14440" y="1914480"/>
            <a:ext cx="6315120" cy="40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J2EE Servic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ava Server Page (JSP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vle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terprise JavaBean (EJB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ava Connectivity Architecture (JCA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ava Message Service (JM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ava Management Extension (JMX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ava Naming and Directory Interface (JNDI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J2EE Architect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562800" cy="49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ervlet Examp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x.servlet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x.servlet.http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lass HelloWorldServlet extends HttpServlet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void doGet (HttpServletRequest req, HttpServletResponse r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hrows ServletException, IOException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ML res.setContentType( "text/html" 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rvletOutputStream out = res.getOutputStream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out.println( "&lt;html&gt;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out.println( "&lt;head&gt;&lt;title&gt;Hello World&lt;/title&gt;&lt;/head&gt;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out.println( "&lt;body&gt;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out.println( "&lt;h1&gt;Hello World&lt;/h1&gt;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out.println( "&lt;p&gt;Congratulations, your servlet is working!&lt;/p&gt;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out.println( "&lt;/body&gt;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out.println( "&lt;/html&gt;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JSP Examp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TABLE WIDTH=60% BGCOLOR=lightblue BORDER=1 CELLPADDING=10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TR&gt; &lt;TH&gt; Time &lt;/TH&gt; &lt;TH&gt; Appointment &lt;/TH&gt; &lt;/T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FORM METHOD=POST ACTION=cal1.jsp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(int i=0; i&lt;table.getEntries().getRows(); i++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l.Entry entr = table.getEntries().getEntry(i)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T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TD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A HREF=cal2.jsp?time=&lt;%= entr.getHour() %&gt;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%= entr.getHour() %&gt; &lt;/A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T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TD BGCOLOR=&lt;%= entr.getColor() %&gt;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% out.print(util.HTMLFilter.filter(entr.getDescription())); %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TD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T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TABL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8T01:35:58Z</dcterms:created>
  <dc:creator>Natawut</dc:creator>
  <dc:description/>
  <dc:language>en-US</dc:language>
  <cp:lastModifiedBy>Natawut Nupairoj</cp:lastModifiedBy>
  <dcterms:modified xsi:type="dcterms:W3CDTF">2003-07-20T10:59:22Z</dcterms:modified>
  <cp:revision>22</cp:revision>
  <dc:subject/>
  <dc:title>Development Platforms</dc:title>
</cp:coreProperties>
</file>